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904-D3FF-41E6-BEFC-BA294EAA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46A1-9809-4F87-8D68-7C4009C2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382B-DF09-4B20-9A26-EF1A4B54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EF7C-E20B-429F-8F85-86613EC2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A513-EAAB-46F0-919A-A346DF52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E473-3CA5-4587-A827-6917EBE3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7C7-12AA-4364-8AC9-39857CFD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EE5E-01F7-4455-BABB-45CFA1A0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CFD-7F10-4F9F-8530-9FFA079B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619-87D3-4D74-B785-9C7371A3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07AC-AEE5-4850-8614-D4F3D3E2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B90-A3FD-460A-8719-08ECBD61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A4DA-AAAB-4C72-8180-835B9CE82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Spe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u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out and read word for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– you say exactly what you mean to and you won’t forget an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 – you don’t have good eye contact and it’s not always a natural way of sp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out and memor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mporane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d and practiced but not written out word for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mp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 the cuff” and without any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main purposes of a spe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ersu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te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types of informative spee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itory – gives information about an object, place, person, event, or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– shows how something works, how to do something, or how something was done or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idelines for choosing a 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topic that interest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you can find sufficient material on your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your topic is appropriate to your audience and occa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you have enough time to research your topic and that it can be covered in the time allow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1:30:50Z</dcterms:created>
  <dc:creator>username</dc:creator>
  <dc:description/>
  <dc:language>en-US</dc:language>
  <cp:lastModifiedBy>username</cp:lastModifiedBy>
  <dcterms:modified xsi:type="dcterms:W3CDTF">2009-09-29T17:47:46Z</dcterms:modified>
  <cp:revision>2</cp:revision>
  <dc:subject/>
  <dc:title>Types of Speeches</dc:title>
</cp:coreProperties>
</file>